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070-001A-4BAD-A9DC-DBEC3DE7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072-C8C3-4DCD-A4B9-DC444D9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9B0-8400-40EF-B1C0-94DB96C7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3F8-A3AB-4DE9-A11D-F704F294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ABF-C7D3-4248-9940-BC286B58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D4F-9B99-48D3-88C6-B311A27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CE9-352B-4E0C-9419-AB6BFBC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F0F-3A2D-42AA-8C61-95694C1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82C-662E-4366-94D9-C7A5BB1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979-2286-40B8-8A23-5B64BCB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0DB-EEA8-4A0F-95E8-066CA8F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E30-2A7D-470F-8CE0-0C2892E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8A2-4CAE-4D89-917E-C92CF6AC7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oss-Section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6947"/>
          <a:stretch/>
        </p:blipFill>
        <p:spPr>
          <a:xfrm>
            <a:off x="990720" y="457200"/>
            <a:ext cx="7162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6910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6858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160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533520" y="6858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035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76212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91440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247"/>
          <a:stretch/>
        </p:blipFill>
        <p:spPr>
          <a:xfrm>
            <a:off x="6094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1265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943600"/>
            <a:ext cx="1676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67155" r="0" b="22055"/>
          <a:stretch/>
        </p:blipFill>
        <p:spPr>
          <a:xfrm>
            <a:off x="762120" y="33526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533520"/>
            <a:ext cx="74674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756" r="0" b="11265"/>
          <a:stretch/>
        </p:blipFill>
        <p:spPr>
          <a:xfrm>
            <a:off x="762120" y="3886200"/>
            <a:ext cx="7467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4419720"/>
            <a:ext cx="1752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733920"/>
            <a:ext cx="3352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9528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2329"/>
          <a:stretch/>
        </p:blipFill>
        <p:spPr>
          <a:xfrm>
            <a:off x="990720" y="762120"/>
            <a:ext cx="716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85800" y="60948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7130" r="0" b="21918"/>
          <a:stretch/>
        </p:blipFill>
        <p:spPr>
          <a:xfrm>
            <a:off x="685800" y="3809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609480"/>
            <a:ext cx="74674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76718" r="0" b="16435"/>
          <a:stretch/>
        </p:blipFill>
        <p:spPr>
          <a:xfrm>
            <a:off x="762120" y="3200400"/>
            <a:ext cx="746748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762120" y="914400"/>
            <a:ext cx="746748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82201" r="0" b="12329"/>
          <a:stretch/>
        </p:blipFill>
        <p:spPr>
          <a:xfrm>
            <a:off x="762120" y="3886200"/>
            <a:ext cx="746748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7120" y="419112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46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8914"/>
          <a:stretch/>
        </p:blipFill>
        <p:spPr>
          <a:xfrm>
            <a:off x="838080" y="83808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38853"/>
          <a:stretch/>
        </p:blipFill>
        <p:spPr>
          <a:xfrm>
            <a:off x="609480" y="3808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73839" r="0" b="18914"/>
          <a:stretch/>
        </p:blipFill>
        <p:spPr>
          <a:xfrm>
            <a:off x="609480" y="3124080"/>
            <a:ext cx="77724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696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50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23132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1353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2755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787"/>
          <a:stretch/>
        </p:blipFill>
        <p:spPr>
          <a:xfrm>
            <a:off x="8380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499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7:33Z</dcterms:modified>
  <cp:revision>218</cp:revision>
  <dc:subject/>
  <dc:title>Slide 1</dc:title>
</cp:coreProperties>
</file>